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673-5CE5-435B-802A-331BF8BE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CE5-35DA-4962-94AA-08E1725E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066-8F8C-4B42-9E3B-11ED1975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92C-77D7-42B5-8989-05B6B4C0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7CF9-D3DE-48FA-8C64-AC7D766E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9177-2DE1-4309-A445-A90703EC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16A0-E7BB-494B-B0F7-9FF49123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95E9-F5CC-4F8A-86B9-1AF6B363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FF00-9A0A-4180-BC51-4C2B4B0E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1F0C-E9A6-426B-9941-585BB7CA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3D9D-4398-4427-97A3-2B8745F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8E0-CBAF-4033-834F-1B673E78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1D2B-07CA-4460-89BC-A3F63A5C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A5E0-E653-4F06-AEA1-6F288998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03D3-01D5-4963-86D6-FAF8924A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85FC-2E5C-4060-B0DC-D515B138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2EDD-B6D0-42BF-A323-BA45AAD1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A05-7D46-473F-A3C9-E2D9B18F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D70-4D59-46AC-B2FC-C82AD6F7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977-73E8-4B99-A41A-41E07E74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3CD-29F2-48C5-88AA-9E6B5FA2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E44-24C9-4CF1-B2C2-4C3CC1E1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01B-493C-43C1-854D-B69309D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8A5-EEAA-4EE4-8D69-722FE083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6148-CD78-49DC-8239-AE0E8A783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A077-67F9-495C-A5BB-EB408D3A85D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to Read a Recipe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76520" y="30481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86200" y="3962520"/>
            <a:ext cx="156996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ookies are needed in all to make the School Bus C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1 cook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3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4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7-8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7-8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teps in the School Bus Cake recipe are simil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tep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Steps 2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Steps 3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Steps 1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teps 2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chool Bus Cake recipe, which step do you do after attaching the cookies for the window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Use the frosting to ad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Cut the Twinkie into a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Attach the cookies to form the whe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Eat the tasty sn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Use the frosting to add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the author probably write these pass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To teach about school buses and treasure ch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To teach you how to make tasty sn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To tell you a funny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To persuade you to buy Twin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o teach you how to make tasty sn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tchen utensil is used in both reci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p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Sci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Kn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Kn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do I read a recip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your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rec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reading a recipe dif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reading a story or a re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ngredients are used in both recip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Milk an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Chocolate frosting and Twin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Oreos and chocolate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Licorice and fruit ch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Chocolate frosting and Twin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teps are in the directions for each rec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1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4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5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6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4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do I read a recip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answer to our essential question on a recipe card.  Be sure to include the important parts of a reci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rts of a Recip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xplains the recipe you are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ells how many people the recipe will 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 ingred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food/material needed to make the recipe; listed at the beginning of the rec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tep by step explanation of what needs to be done in the rec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 time-how long it will take to pre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king time- how long it needs to be ba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the recipe, how long should the Treasure Chest Cake take to prep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how many pieces should you cut the strawberry licorice for the Treasure Chest C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2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3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4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5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4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direction should you cut the Twinkie or cake for the Treasure Chest C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Side to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Corner to co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 Do not c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57600" y="11582280"/>
            <a:ext cx="156996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rrect answer is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Side to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2:24:39Z</dcterms:created>
  <dc:creator>West Shore  School District</dc:creator>
  <dc:description/>
  <dc:language>en-US</dc:language>
  <cp:lastModifiedBy>West Shore  School District</cp:lastModifiedBy>
  <dcterms:modified xsi:type="dcterms:W3CDTF">2009-02-18T19:51:00Z</dcterms:modified>
  <cp:revision>9</cp:revision>
  <dc:subject/>
  <dc:title>How to Read a Recipe </dc:title>
</cp:coreProperties>
</file>